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7834-2FAF-4C8F-ABC5-FE4ECFD770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97EF-C116-408F-A8C0-37E26B6D0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382-4E6C-401F-9387-44E4EA8F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6E4-CC8A-4EB6-BA76-A0C25C75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9EA-8A2C-46F2-ADC0-3A0F26D4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B08-3935-4F55-B473-8EFB2B4C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77F3-7DE9-4190-BDB5-75D5014E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1EAF-5154-4C79-8051-2B8CDE6E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C61-BC49-4009-87A0-1185486A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740F-872D-4B29-8E9C-6B66E847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8ED5-39BC-48D5-8994-6921097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E188-0CD5-496F-A075-82D560C8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3673-5F84-48CB-9950-255BB90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2FA-F7B2-4CD5-975F-B6CDCC15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A686-2521-477C-98C7-5BBE7946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FA3F-B88F-4EE3-BC87-CE82B5F9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12BB-89D2-404F-B0A5-EAF05FC5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6670-2392-4854-B8D3-AAE40701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DA01-9660-4DE7-B7F6-E31BAB34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F15E-95F3-4161-9624-6464C698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6A12-26AB-4DC7-A8B5-AAF9F129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61CC-69CC-4393-B018-F25BB92B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DEEEB-9B97-4A97-96F4-515E0CBB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5F85-9D7F-4BD3-B341-E0570636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69A-6D73-401B-B30A-B8D0FF93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CCC0A-C067-444C-87C4-36A01807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FFF6-3B7B-4ADB-AE78-44EB11A4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0ADEF-585B-4FE7-A635-D42C4114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681E-6F54-46ED-A733-F437D1E1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5B8A-7F9F-404F-950F-6C107810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F2D7-0CAD-472E-83C3-3F0F964F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44E9-E08A-41FA-9BE7-A53F0D34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2ED74-724E-4E13-96DB-04C2D999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B757-B502-47D9-A7D1-E75BF602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FB3A-F886-43A2-8CA9-C2258510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8B5-C932-4063-846E-EEDA4ACF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E1C6-5C3F-49F2-90BB-35A5B2B2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417C6-E6CB-4641-882D-BA828926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56CF-E03C-49EC-8876-9929E100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87EB-625A-4936-8281-C97649D4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29F33-046F-4B2D-A275-4447E5EC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91386-B8F3-4D05-8189-7D9E4CE8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7BF87-2664-4CA6-A7B2-46D4E298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B6D29-CB25-4C47-98CF-4950F15B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DB53D-6B08-4BFB-953A-E8CA9293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FDC-375C-4224-8175-CA054AC0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EA1-298C-4E14-B45E-D9503FA5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C99-6EFA-41EC-8374-BB9A4E2F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F5D-DFCD-4CD7-8464-7D10FC8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B0D-7A99-4F1D-9194-1481435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5E67-CDC1-441E-AF03-52C0085E6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2191-BB8B-40A7-B127-E785BE0EB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4AEB-1C2D-4DEA-91D4-920BC2F46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4B8F-B5BF-46A7-A9E4-0456CA524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929720" cy="42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Профессиональная компетентность современного педагога ДОУ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Успешность и карьера.</a:t>
            </a:r>
            <a:br>
              <a:rPr sz="36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857680" y="4143240"/>
            <a:ext cx="60004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рова Анастасия Виталь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ь ГБДОУ детский сад  №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4" descr="F:\Мои рисунки\книги\5cebd5a1c5bd.png"/>
          <p:cNvPicPr/>
          <p:nvPr/>
        </p:nvPicPr>
        <p:blipFill>
          <a:blip r:embed="rId1"/>
          <a:stretch/>
        </p:blipFill>
        <p:spPr>
          <a:xfrm>
            <a:off x="285840" y="4500720"/>
            <a:ext cx="2836800" cy="196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3" descr="D:\Мои документы\Мои рисунки\Садик\post-50343-1263738910.png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786200"/>
          </a:xfrm>
          <a:prstGeom prst="rect">
            <a:avLst/>
          </a:prstGeom>
          <a:ln w="0">
            <a:noFill/>
          </a:ln>
        </p:spPr>
      </p:pic>
      <p:sp>
        <p:nvSpPr>
          <p:cNvPr id="193" name="Выноска со стрелкой влево 4"/>
          <p:cNvSpPr/>
          <p:nvPr/>
        </p:nvSpPr>
        <p:spPr>
          <a:xfrm>
            <a:off x="5143680" y="428760"/>
            <a:ext cx="3714480" cy="1571400"/>
          </a:xfrm>
          <a:prstGeom prst="leftArrowCallout">
            <a:avLst>
              <a:gd name="adj1" fmla="val 39189"/>
              <a:gd name="adj2" fmla="val 25000"/>
              <a:gd name="adj3" fmla="val 25006"/>
              <a:gd name="adj4" fmla="val 649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риентироваться в информационных пот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Выноска со стрелкой вниз 5"/>
          <p:cNvSpPr/>
          <p:nvPr/>
        </p:nvSpPr>
        <p:spPr>
          <a:xfrm>
            <a:off x="2357280" y="285840"/>
            <a:ext cx="2714760" cy="1143000"/>
          </a:xfrm>
          <a:prstGeom prst="downArrowCallout">
            <a:avLst>
              <a:gd name="adj1" fmla="val 25007"/>
              <a:gd name="adj2" fmla="val 25005"/>
              <a:gd name="adj3" fmla="val 25000"/>
              <a:gd name="adj4" fmla="val 6497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аивать нов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Выноска со стрелкой влево 6"/>
          <p:cNvSpPr/>
          <p:nvPr/>
        </p:nvSpPr>
        <p:spPr>
          <a:xfrm>
            <a:off x="5000760" y="4857840"/>
            <a:ext cx="3857400" cy="1571400"/>
          </a:xfrm>
          <a:prstGeom prst="leftArrowCallout">
            <a:avLst>
              <a:gd name="adj1" fmla="val 40448"/>
              <a:gd name="adj2" fmla="val 25000"/>
              <a:gd name="adj3" fmla="val 25002"/>
              <a:gd name="adj4" fmla="val 649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спользовать недост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Выноска со стрелкой влево 7"/>
          <p:cNvSpPr/>
          <p:nvPr/>
        </p:nvSpPr>
        <p:spPr>
          <a:xfrm>
            <a:off x="5143680" y="2286000"/>
            <a:ext cx="3714480" cy="2286000"/>
          </a:xfrm>
          <a:prstGeom prst="leftArrowCallout">
            <a:avLst>
              <a:gd name="adj1" fmla="val 40569"/>
              <a:gd name="adj2" fmla="val 24310"/>
              <a:gd name="adj3" fmla="val 38102"/>
              <a:gd name="adj4" fmla="val 649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ть такими качеств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ость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Выноска со стрелкой вверх 8"/>
          <p:cNvSpPr/>
          <p:nvPr/>
        </p:nvSpPr>
        <p:spPr>
          <a:xfrm>
            <a:off x="2071800" y="5286240"/>
            <a:ext cx="2714400" cy="1285920"/>
          </a:xfrm>
          <a:prstGeom prst="upArrowCallout">
            <a:avLst>
              <a:gd name="adj1" fmla="val 25039"/>
              <a:gd name="adj2" fmla="val 24998"/>
              <a:gd name="adj3" fmla="val 25000"/>
              <a:gd name="adj4" fmla="val 7004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ыв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инципы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фессиональной успешности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дагог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80960" y="1463760"/>
          <a:ext cx="8353440" cy="502452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50796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ци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дагогический замыс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  <a:tr h="23670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инцип фейерверка»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крой себя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едагоги – звезды: близкие и далекие, большие и маленькие, одинаково красивые. Каждая звездочка выбирает свой путь полета: у одних он длинный, а у других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 – желание сиять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214956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инцип весов»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йди себя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вой выбор – твои возможност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прописных истин, они рождаются в споре. Вокруг бушует ураган социальных противоречий. Важно быть самостоятельным в мире. Весы–качели – символ постоянного поиска, стремление выработать свою точку зр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</a:tbl>
          </a:graphicData>
        </a:graphic>
      </p:graphicFrame>
      <p:sp>
        <p:nvSpPr>
          <p:cNvPr id="200" name="Улыбающееся лицо 4"/>
          <p:cNvSpPr/>
          <p:nvPr/>
        </p:nvSpPr>
        <p:spPr>
          <a:xfrm>
            <a:off x="2268360" y="3260880"/>
            <a:ext cx="476280" cy="428400"/>
          </a:xfrm>
          <a:prstGeom prst="smileyFace">
            <a:avLst>
              <a:gd name="adj" fmla="val 9282"/>
            </a:avLst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ятно 2 5"/>
          <p:cNvSpPr/>
          <p:nvPr/>
        </p:nvSpPr>
        <p:spPr>
          <a:xfrm>
            <a:off x="2992320" y="2844720"/>
            <a:ext cx="495360" cy="295200"/>
          </a:xfrm>
          <a:prstGeom prst="irregularSeal2">
            <a:avLst/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2 6"/>
          <p:cNvSpPr/>
          <p:nvPr/>
        </p:nvSpPr>
        <p:spPr>
          <a:xfrm>
            <a:off x="3040200" y="3741840"/>
            <a:ext cx="495000" cy="295200"/>
          </a:xfrm>
          <a:prstGeom prst="irregularSeal2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ятно 2 7"/>
          <p:cNvSpPr/>
          <p:nvPr/>
        </p:nvSpPr>
        <p:spPr>
          <a:xfrm>
            <a:off x="1436760" y="2924280"/>
            <a:ext cx="495360" cy="295200"/>
          </a:xfrm>
          <a:prstGeom prst="irregularSeal2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ятно 1 8"/>
          <p:cNvSpPr/>
          <p:nvPr/>
        </p:nvSpPr>
        <p:spPr>
          <a:xfrm>
            <a:off x="1392120" y="3289320"/>
            <a:ext cx="524160" cy="371520"/>
          </a:xfrm>
          <a:prstGeom prst="irregularSeal1">
            <a:avLst/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ятно 1 9"/>
          <p:cNvSpPr/>
          <p:nvPr/>
        </p:nvSpPr>
        <p:spPr>
          <a:xfrm>
            <a:off x="1515960" y="3660840"/>
            <a:ext cx="476280" cy="361800"/>
          </a:xfrm>
          <a:prstGeom prst="irregularSeal1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ятно 1 10"/>
          <p:cNvSpPr/>
          <p:nvPr/>
        </p:nvSpPr>
        <p:spPr>
          <a:xfrm>
            <a:off x="3133800" y="3165480"/>
            <a:ext cx="428400" cy="428760"/>
          </a:xfrm>
          <a:prstGeom prst="irregularSeal1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11"/>
          <p:cNvSpPr/>
          <p:nvPr/>
        </p:nvSpPr>
        <p:spPr>
          <a:xfrm flipV="1">
            <a:off x="2744640" y="3192120"/>
            <a:ext cx="2476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2"/>
          <p:cNvSpPr/>
          <p:nvPr/>
        </p:nvSpPr>
        <p:spPr>
          <a:xfrm flipV="1">
            <a:off x="2071800" y="3670200"/>
            <a:ext cx="2476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3"/>
          <p:cNvSpPr/>
          <p:nvPr/>
        </p:nvSpPr>
        <p:spPr>
          <a:xfrm>
            <a:off x="2744640" y="34653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4"/>
          <p:cNvSpPr/>
          <p:nvPr/>
        </p:nvSpPr>
        <p:spPr>
          <a:xfrm>
            <a:off x="2744640" y="3646440"/>
            <a:ext cx="2476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5"/>
          <p:cNvSpPr/>
          <p:nvPr/>
        </p:nvSpPr>
        <p:spPr>
          <a:xfrm>
            <a:off x="1973160" y="3218040"/>
            <a:ext cx="2952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6"/>
          <p:cNvSpPr/>
          <p:nvPr/>
        </p:nvSpPr>
        <p:spPr>
          <a:xfrm flipV="1">
            <a:off x="1944720" y="3465000"/>
            <a:ext cx="32364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Равнобедренный треугольник 17"/>
          <p:cNvSpPr/>
          <p:nvPr/>
        </p:nvSpPr>
        <p:spPr>
          <a:xfrm>
            <a:off x="2319480" y="5900760"/>
            <a:ext cx="571320" cy="428760"/>
          </a:xfrm>
          <a:prstGeom prst="triangle">
            <a:avLst>
              <a:gd name="adj" fmla="val 50000"/>
            </a:avLst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8"/>
          <p:cNvSpPr/>
          <p:nvPr/>
        </p:nvSpPr>
        <p:spPr>
          <a:xfrm flipV="1">
            <a:off x="1700280" y="5705640"/>
            <a:ext cx="18097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Улыбающееся лицо 19"/>
          <p:cNvSpPr/>
          <p:nvPr/>
        </p:nvSpPr>
        <p:spPr>
          <a:xfrm>
            <a:off x="1392120" y="5729400"/>
            <a:ext cx="514440" cy="390240"/>
          </a:xfrm>
          <a:prstGeom prst="smileyFace">
            <a:avLst>
              <a:gd name="adj" fmla="val 9282"/>
            </a:avLst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Улыбающееся лицо 20"/>
          <p:cNvSpPr/>
          <p:nvPr/>
        </p:nvSpPr>
        <p:spPr>
          <a:xfrm>
            <a:off x="3230640" y="5315040"/>
            <a:ext cx="514440" cy="3906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95280" y="404640"/>
          <a:ext cx="8640720" cy="6040440"/>
        </p:xfrm>
        <a:graphic>
          <a:graphicData uri="http://schemas.openxmlformats.org/drawingml/2006/table">
            <a:tbl>
              <a:tblPr/>
              <a:tblGrid>
                <a:gridCol w="4319640"/>
                <a:gridCol w="4321080"/>
              </a:tblGrid>
              <a:tr h="63108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ци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дагогический замыс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  <a:tr h="220824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инцип рейтинга»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беждай! Пробуй! Планиру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каждого своя программа развития, цели и задачи. Каждый выбирает путь движения к успеху по силам и проявляет себя в разных жизненных ситуаци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32011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инцип успеха»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уй себя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итуации успеха. Главное – почувствовать вкус победы. Педагог – равноправный партнер, учитывающий интересы ребенка, индивидуальные способности и потреб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</a:tbl>
          </a:graphicData>
        </a:graphic>
      </p:graphicFrame>
      <p:sp>
        <p:nvSpPr>
          <p:cNvPr id="218" name="Равнобедренный треугольник 32"/>
          <p:cNvSpPr/>
          <p:nvPr/>
        </p:nvSpPr>
        <p:spPr>
          <a:xfrm>
            <a:off x="1825560" y="1773360"/>
            <a:ext cx="1357200" cy="1224000"/>
          </a:xfrm>
          <a:prstGeom prst="triangle">
            <a:avLst>
              <a:gd name="adj" fmla="val 50000"/>
            </a:avLst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Улыбающееся лицо 33"/>
          <p:cNvSpPr/>
          <p:nvPr/>
        </p:nvSpPr>
        <p:spPr>
          <a:xfrm>
            <a:off x="2212920" y="4365720"/>
            <a:ext cx="581040" cy="504720"/>
          </a:xfrm>
          <a:prstGeom prst="smileyFace">
            <a:avLst>
              <a:gd name="adj" fmla="val 9282"/>
            </a:avLst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оле 22"/>
          <p:cNvSpPr/>
          <p:nvPr/>
        </p:nvSpPr>
        <p:spPr>
          <a:xfrm>
            <a:off x="3409920" y="4060800"/>
            <a:ext cx="666720" cy="304920"/>
          </a:xfrm>
          <a:prstGeom prst="rect">
            <a:avLst/>
          </a:prstGeom>
          <a:solidFill>
            <a:srgbClr val="a9c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Хо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ле 23"/>
          <p:cNvSpPr/>
          <p:nvPr/>
        </p:nvSpPr>
        <p:spPr>
          <a:xfrm>
            <a:off x="3409920" y="5157720"/>
            <a:ext cx="666720" cy="304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Уме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оле 24"/>
          <p:cNvSpPr/>
          <p:nvPr/>
        </p:nvSpPr>
        <p:spPr>
          <a:xfrm>
            <a:off x="1116000" y="5157720"/>
            <a:ext cx="666720" cy="304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Мо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ле 25"/>
          <p:cNvSpPr/>
          <p:nvPr/>
        </p:nvSpPr>
        <p:spPr>
          <a:xfrm>
            <a:off x="1116000" y="4060800"/>
            <a:ext cx="666720" cy="304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Зн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8"/>
          <p:cNvSpPr/>
          <p:nvPr/>
        </p:nvSpPr>
        <p:spPr>
          <a:xfrm flipH="1" flipV="1">
            <a:off x="1912680" y="4308120"/>
            <a:ext cx="27612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9"/>
          <p:cNvSpPr/>
          <p:nvPr/>
        </p:nvSpPr>
        <p:spPr>
          <a:xfrm flipH="1">
            <a:off x="1913040" y="4870440"/>
            <a:ext cx="30456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40"/>
          <p:cNvSpPr/>
          <p:nvPr/>
        </p:nvSpPr>
        <p:spPr>
          <a:xfrm flipH="1">
            <a:off x="2793600" y="4365720"/>
            <a:ext cx="36036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41"/>
          <p:cNvSpPr/>
          <p:nvPr/>
        </p:nvSpPr>
        <p:spPr>
          <a:xfrm flipH="1" flipV="1">
            <a:off x="2743200" y="4871520"/>
            <a:ext cx="3715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9640"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  <a:ea typeface="Calibri"/>
              </a:rPr>
              <a:t>Основные же источники определения успешности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воспитанности, обученности детей в разных видах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детей, успешно обучающихся в начальной шк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проведенные педагогические меро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передового профессионального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и в местной печати, С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8000" y="3357720"/>
            <a:ext cx="548640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Только деятельность, приносящая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успех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ысокое удовлетворение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, становится для личности фактором развития.</a:t>
            </a:r>
            <a:br>
              <a:rPr sz="2800"/>
            </a:br>
            <a:br>
              <a:rPr sz="66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99680" y="285480"/>
            <a:ext cx="82263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сследование профессиональной компетентности педагога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— одно из ведущих направлений деятельности целого ряда ученых В.Н. Введенский, Г.Воронцова, Е. Вторина, И.А. Зим­няя, Н.В. Кузьмина, А.К. Маркова, Г.Молчанов, Л.А. Петровская, Г.С. Сухобская, Т.И. Шам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642960" y="2214720"/>
            <a:ext cx="8226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одержимое 2"/>
          <p:cNvSpPr/>
          <p:nvPr/>
        </p:nvSpPr>
        <p:spPr>
          <a:xfrm>
            <a:off x="500040" y="1928880"/>
            <a:ext cx="82868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фессиональная компетентность»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ссматривается как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вокупность знаний и умений, определяющих результативность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ъем навыков выполнения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мбинация личностных качеств и свойст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мплекс знаний и профессионально значимых личностных качест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правление профессионализ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еоретическая и практическая готовность к труду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пособность к сложным культуросообразным видам действ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нованный на знаниях, интеллектуально и личностно обусловленный опыт социально-профессиональной жизне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94920" y="260280"/>
            <a:ext cx="8497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офессиональная компетентность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ременного педагога ДОУ определяется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совокупность общечеловеческих и специфических профессиональных установок, позволяющих ему справляться с заданной программой и особыми, возникающими в психолого – педагогическом процессе дошкольного учреждения, ситуациями, разрешая которые, он способствует уточнению, совершенствованию, практическому воплощению задач развития, его общих и специальных спосо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проще говоря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применять знания, умения и практический опыт для успешной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Структура профессиональной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5400" y="1599840"/>
            <a:ext cx="82263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нитивный компонен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ключает профессиональные знания в области психолого-педагогических и методиче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ятельностный компоне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профессиональные умения и опы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-личностны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онент - личностные качества и профессиональные ценностные ориентации педаг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временные требования к компетентности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000" y="1989000"/>
            <a:ext cx="7848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лжен быть компетентным в вопросах организации и содержания деятельности по следующим направлени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тельно-образователь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о–методичес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ьно–педагогиче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Воспитательно–образовательная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деятельность предполагает следующие критерии компетент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ение целостного педагогического процес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развивающе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охраны жизни и здоровья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е критерии подкрепляются следующи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елями компетентности педаг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целей, задач, содержания, принципов, форм, методов и средств обучения и воспитания дошколь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я результативно формировать знания, умения и навыки в соответствии с образовательной програм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75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75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75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75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75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чебно – методическая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еятельность воспитателя предполагает следующие критерии компетент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ование воспитательно-образовательной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ирование педагогической деятельности на основе анализа достигнутых результа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е критерии подкрепляются следующи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елями компетент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образовательной программы и методики развития разных видов деятельности де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проектировать, планировать и осуществлять целостный педагогический процес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адение технологиями исследования, педагогического мониторинга, воспитания и обуче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Социально – педагогическая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еятельность воспитателя предполагает следующие критерии компетент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ультативная помощь родител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условий для социализации де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щита интересов и пра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е критерии подкрепляются следующи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елям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основных документов о правах ребенка и обязанностях взрослых по отношению к дет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вести разъяснительную педагогическую работу с родителями, специалистами Д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  <a:ea typeface="Calibri"/>
              </a:rPr>
              <a:t>Основные пути развития профессиональной компетентности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5400" y="1844280"/>
            <a:ext cx="8226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бота в методических объединениях, творческих групп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следовательская, эксперимента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нновационная деятельность, освоение новых педагогических технолог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личные формы педагогической поддерж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ктивное участие в педагогических конкурсах, мастер – класс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общение собственного педагогическ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4:30:49Z</dcterms:created>
  <dc:creator>Пользователь</dc:creator>
  <dc:description/>
  <dc:language>en-US</dc:language>
  <cp:lastModifiedBy>барсук</cp:lastModifiedBy>
  <dcterms:modified xsi:type="dcterms:W3CDTF">2022-02-17T07:07:33Z</dcterms:modified>
  <cp:revision>70</cp:revision>
  <dc:subject/>
  <dc:title>Повышение профессиональной компетентности педагогов дошкольного образовательного учреждения</dc:title>
</cp:coreProperties>
</file>